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63C-60D1-4698-991A-A3AFBEAA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FF4-D591-4EA0-A1E2-B9A344F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6FC-B811-47E9-97A2-7AB9CE6A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3C4-3B14-470C-BFC7-EB11FD06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A003-59C7-4CD6-BF63-D6F6A3B5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4D3A-5F38-4048-8641-CF1F30A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A49B-C0BB-4546-9469-E2B4451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8332-CD00-4C54-8A48-B014EAD8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2560-00EA-4BB4-BFBE-CCC53A5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0C3F-581F-446C-B347-E2006EB5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523A-903B-4904-A9F8-B421DDC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525-EAF5-4E81-A494-14F6A3EA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9915-B6AF-415B-ADA3-DE6B02E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E0E5-ED67-42C9-839C-907D6841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B005-D425-45CF-BB06-B96C56E5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EED-757B-49E3-885A-9EE1B8C6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682-9229-43EE-9C73-FAB3826E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98EB-D2A6-4D6A-9EDD-69540C23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2BAF-D40D-4C1F-BDAF-5767809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5B52-CC1C-4D90-9898-7943530A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8AA8-8A4F-4DB3-9A94-9A51284A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97C7-D2DF-48C3-8F1C-CB88FA02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368-F79C-468B-928F-95407F9F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20A7-4401-41D0-BBE4-F0FDD51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FE23-7EE0-4407-84B3-1D35274F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AF37-48D1-4086-9354-550EFCD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30DE-B2C3-4FE5-A12B-98B0361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381C-6266-4147-B7DC-FE13D31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A342-3AE0-4478-94C9-379B5A4B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CDBC-DB5A-4D51-AA2F-FCFB4031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260B-DE9F-4BA9-9E8C-7A6CE78F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90DD-F367-40F0-8E88-FE556A0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664A-63FC-43F0-B263-C1B39B6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FCD-4AFF-4E62-9AB9-4065A0A0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9AA2-E6DD-4E76-9A65-CADE393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F3B1-F3FE-4C8F-8109-DCB4DEAD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77E5-BD2B-4D9D-A10D-EEE9FCDF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6C6B-AF29-43E3-B7DC-23E5297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B387-C3FE-4707-9C2A-3599B44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95CE-8BE2-474E-936D-E5BC619E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23AF-9391-4909-815D-2C399B4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5ACC-BC2F-4368-BBB9-EB005EC8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A3DE-FBF6-43F2-8983-58B2F0F2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579B-D90E-491B-A40B-1E3878AD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11A-3BFC-4446-AE82-5257B73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9D56-0DB0-4F82-9EB3-7349E1B0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24EC-F9F0-48FD-97CB-561C9E5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34D5-C7B5-4429-A0F3-344301F9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91878-4609-42AA-A902-9C661F3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7892-0ACB-4025-8921-1F2F4FCC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8797-E4B5-4385-AFCD-7CFCBDE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4D67-EE8F-4F52-AB7A-EC3426D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1431-B2BD-4698-9B5B-CC31F38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0B1F-8ADF-4DEF-924B-3F2034C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7D1A-BA83-4F4D-88E1-F8B3E568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E0D-586F-4290-86A4-5B0345B1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B857-7A88-4530-89AC-AEC4152B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79C77-1B52-4B5F-8599-C559DC33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BA890-E3AD-4FE3-BF9B-9E5B0B91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1930A-1F1C-47EA-A1D3-AC08CCB1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D042-842E-4E33-877B-F650DAF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BB0B-CF49-4CD1-9AC7-6672CF29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BF11E-90F8-45FA-B15C-BC6633C2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FA38-81A9-4A50-B1B3-116EF62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E3BC4-48B5-4BC0-9888-0A33B79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625E-E8E6-47D5-875B-6B4529C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12E-ED21-4F01-9696-688251E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6ECE6-413B-4740-9323-E54A046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F17C-BCD8-489E-8D68-B30D6F40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A409-FB19-4595-B9BA-60D479EA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0A53-3DBA-4A9B-A528-A8DD0524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9E289-7303-41B0-BE1B-1C2D9F84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EA82-4398-4D2A-AB72-9063FDF0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0FCA2-181F-4255-B98C-84D0E1E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1950-3D1F-4620-8941-8A338344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D0B81-A2B5-4179-A8CC-0E6BDC9E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F90E-9796-472B-B927-3141C0C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9C6-9185-460D-9199-8F4292B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1A450-0B0B-4552-B4B0-D66436BC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73C5-2F43-4C8C-9829-986AC80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DA8C-245C-41E2-B7B3-2BC1C0D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8875-D457-4A36-958D-1E418C60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E42D-6065-4E61-92C9-6EFDCF84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1A8-873D-4F3F-A223-7D85714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D2B7-9CD3-4DB0-97BA-8CF83BB8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83C-2720-4CB1-B17D-A0CF44404A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ADD-4050-4F57-AA72-6C3D3F616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8B53-E06B-4FC2-B19F-BC28A6E380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E10A-3097-46BC-9B0E-96CAFB56E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8ED5-E8F8-42F4-8B3F-9D535FA4347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4E2-7C3D-401E-BD64-06B3EB7E8D1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building is very old but luxuriou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l edificio es muy antiguo pero lujoso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photographer (m) decided to take pictures of all the activitie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l fotógrafo decidió sacar fotos de todas las actividade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et’s take a tax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amos a tomar un tax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journalist wrote a long interview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l periodista escribió una entrevista larga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architecture in Madrid is not moder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 arquitectura en Madrid no es modern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re you (sing / form)  the bos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¿Fue usted el jefe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 don’t agree. Mercedes was the winner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No estoy de acuerdo. Mercedes fue la ganadora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don’t want to be a recepcionist, I want to be a secreta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Yo) quiero ser una recepcionista, quiero ser una secretari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48:23Z</dcterms:created>
  <dc:creator>coffmank</dc:creator>
  <dc:description/>
  <dc:language>en-US</dc:language>
  <cp:lastModifiedBy>Prine, Stephanie</cp:lastModifiedBy>
  <dcterms:modified xsi:type="dcterms:W3CDTF">2013-01-17T16:33:29Z</dcterms:modified>
  <cp:revision>10</cp:revision>
  <dc:subject/>
  <dc:title>5-3 2nd chispas</dc:title>
</cp:coreProperties>
</file>